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A0CF-C02D-43C7-8CE8-6491E8DF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B182-71A5-4413-9A4A-FD04828E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226-D42E-4090-99C1-11A1679A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B6C-25E1-4B9A-AADD-6650BE91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95A-F338-4E92-A2F8-AE2F232A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1CA-AF19-4011-AEE9-97659679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058-E0F6-4089-BF3D-450766A5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004-A905-44D8-AA50-124DFC2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985-BCB7-4DC8-B4FA-095D4B4F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095-2BA2-4E01-9BFC-2CB8039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A9D-C0DD-423E-9E9C-7C73D48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63C-8CB7-48E8-B1D9-34FCF62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2E7E-4C11-40FC-8A6F-A73427C99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:39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knocks on the door of the clinic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b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ition and says with a suff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For 2 month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 have 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e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 the pa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ch worse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adi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dow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ft calf. I can not st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more. Ple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help me, paracetamol and ketoprofen did not improve my sufferin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spine and 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posture, physiological cur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, calf circum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and percussion, Homan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 ° of flexion) of the hip, knee, 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 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ne, reflexes, sen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atten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be p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ègu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muscle streng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ities (walking on their toes / heels, getting up from the squ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fi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a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gt; 3d FAST, ≤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U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hypoesthesi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examination to tes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t examination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lg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 g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rcum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mbar lor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asègu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50°, right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ps and kne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f the left foot and big toe dorsi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vel 4) fo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esthesia along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ter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ft lowe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l examination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flexe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ft hip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yndroma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ich spinal nerve is aff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s now, prescription for further analgesia at home, referral for MRI and 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, improvement is expected in 1-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 of the spine and then furth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 wee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t, analgesia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gesic PTH treatments (TENS,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 for confirmation of diagnosis and decisions regard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rg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is particular case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ical treatment i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en is emergency surgery indi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cionally important palsy less than 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uch cases should be immediately referred to the hospital with emergency MRI and emergency spinal surgica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whom would you refer such patient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it is not emergen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hysical rehabilitation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 HERN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history /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nination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not properly assess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perly re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is urgent (sphincter, paresis ≤ 3d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what should be ope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 and what does not requir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na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rse of the disease (2-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eek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tient triage without proper examin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as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hincter disorders, inaccurat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14880" cy="34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403848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’m so glad surgery was not required. You are such an excellent doctor who healed me in 3 weeks just by applying bioenergy with warm hands. Now I can start Pilates training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 you do with the pat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scribe stronger analgesic and examine h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ow long has the pain been radiating to the ca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rst time in h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? Chill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u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HINCT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adiating to the calf for 1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imes painful back and hip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ver or ch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trauma or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 fact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egular medications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fecation is rather infreq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every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rter of a watermelon and drin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1 li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w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rination is generally 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me urine dr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ked because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did not get to the toilet on time.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eft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umbar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7T05:06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